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46F3-B59F-4863-B7F0-922F523B0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A102-7337-46B2-B17D-9F688A072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52FC-9A7A-468A-807D-5DADA9BA6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0E2C-0175-4182-982D-77481B5F5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AB2F-5121-4F95-AD91-6DD627B63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D2A1-A582-4A7D-9538-E8640C54A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1CDB6-FCA2-44DE-B956-F346BED84C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CB347-3FF9-4583-BB44-12C7E8B4F5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A5EA3-CBAD-41FD-8C78-7BEB7A76F2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009D8-0313-4D9F-8A66-E2D73C805E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3A870-B268-4590-A961-69A024D91C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5CB34-8BF9-4C9D-BF6B-3BBB322552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0BED1-9201-436A-BD35-0D281B60B8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02D1-83CE-4B13-93F8-032734333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AA689-5CE9-4766-9473-CC214F1128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5BEB6-7F11-4397-AFA5-92CD4F9108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DE251-44C7-4CEA-8EBF-F18E617801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F6E3D-7E02-4BFA-B415-10C8A61C5D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B9583-2F56-40CB-9F44-D56DFBCCC7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FC7F-14BF-413F-BC7E-07F432CC9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60CA-36DF-4000-B0D6-E7AB2B196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CA318-0F4E-4B72-81A3-FA215DF1D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FA40-CA2F-48C9-8FCA-51C637669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5046-E81B-4A2B-926D-795C55FC4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4280-C2EB-4FC8-8916-E64F78198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4D31-5DA0-418A-98E7-4275A80CB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610760" y="645804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038480" y="6244920"/>
            <a:ext cx="106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C621-3BD6-4F34-97B5-A5A029ECF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924320" y="650700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90760" y="624492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3825-A324-46CF-BF14-E970FB9C0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niversalservice.org/sl/applicants/step04/state-replacement-contracts.aspx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371600" y="16765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You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and Libraries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28600" y="5791320"/>
            <a:ext cx="8534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hington, DC • Newark • Atlanta • Chicago • Orlando • Los Angeles • Portland • Hous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/Octo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E583-FF48-40AB-9592-F8810EC28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plica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iled Form 4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366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 competitive bidding process based on FCC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ich bids to compare on S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licant makes decision solely from bid responses received from their Form 470, then compare just those that provided a bid. (Some may have been using the SMC vehicle, others may not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licant proactively looks for “bids” by going to the State Contract, they must compare all available bidders on the S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Award Date = Date you decided to purchase off State Con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: Memorialize your decision to purchase off a State Contract in an email to yourself or the fi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D6B4-ADD6-48A3-AA0E-11A021057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ing Among Multiple Win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able to show how provider was selected and be in compliance with FCC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not comparing ALL of the vendors on the multiple award schedule, be prepared to explain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of the eligible goods and services must be the primary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a mini-b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085B-7644-4FB5-BBC3-CF9A63A72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f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just pick the provider you used before? They are on the State M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annot show that you compared all of the providers* based on FCC rules, then your funding may be deni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nduct a mini-bid but don’t follow your own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unding may be deni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24000" y="59436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= see previous slides for guidance on selecting among multiple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3C42-7FF8-4D1B-81CF-79870076F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Replacement Contr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tate Master Contract expires either before the fund year starts or during a fund year, you may be able cite a </a:t>
            </a:r>
            <a:r>
              <a:rPr b="0" lang="en-US" sz="2800" spc="-1" strike="noStrike" u="sng">
                <a:solidFill>
                  <a:srgbClr val="2a56b2"/>
                </a:solidFill>
                <a:uFillTx/>
                <a:latin typeface="Arial"/>
                <a:hlinkClick r:id="rId1"/>
              </a:rPr>
              <a:t>State Replacement Contrac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RC) on your F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470/Contract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State Master Contract posted on a State Form 4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ment State Master Contract posted on a State Form 4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C can make commitments using the SRC SPIN, but cannot pay invoices until a SPIN change to “real” provider has been proce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EE65-217B-4518-85C6-E1EC8CDF8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 Expire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s know that State has filed 470, but the winning bidder has not yet been announced at the time of the window cl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s can submit an FRN for 12 months of service under the expected State contr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s file based on pricing from expiring contra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901F-F0C9-4E7E-87C6-57D83E7D4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file for SR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5800" y="1676520"/>
          <a:ext cx="7772400" cy="4267080"/>
        </p:xfrm>
        <a:graphic>
          <a:graphicData uri="http://schemas.openxmlformats.org/drawingml/2006/table">
            <a:tbl>
              <a:tblPr/>
              <a:tblGrid>
                <a:gridCol w="838080"/>
                <a:gridCol w="6934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470 from expiring State Master Contra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SPIN 143999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STATE REPLACEMENT as SP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SRC prefix to current Master Contract 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same account 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D will be pre-populated based on Item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should be day after expiration of old Master Contra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C1D5-906D-4AC2-8663-85120E75C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file for SR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5800" y="1676520"/>
          <a:ext cx="7772400" cy="4221000"/>
        </p:xfrm>
        <a:graphic>
          <a:graphicData uri="http://schemas.openxmlformats.org/drawingml/2006/table">
            <a:tbl>
              <a:tblPr/>
              <a:tblGrid>
                <a:gridCol w="838080"/>
                <a:gridCol w="693432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D is July 1 of the fund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D will be end of the fund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t copy of expiring SMC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entities that will be receiving servic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ring and non-recurring charges are limited to charges in expiring Master Contract. If there was no provision for one-time charges in old contract, cannot claim them for future contrac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9BE4-DB25-480B-9EB2-CD71EA0B4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MT"/>
              </a:rPr>
              <a:t>SC Expires </a:t>
            </a:r>
            <a:r>
              <a:rPr b="1" lang="en-US" sz="4000" spc="-1" strike="noStrike">
                <a:solidFill>
                  <a:srgbClr val="000000"/>
                </a:solidFill>
                <a:latin typeface="ArialMT"/>
              </a:rPr>
              <a:t>During</a:t>
            </a:r>
            <a:r>
              <a:rPr b="0" lang="en-US" sz="4000" spc="-1" strike="noStrike">
                <a:solidFill>
                  <a:srgbClr val="000000"/>
                </a:solidFill>
                <a:latin typeface="ArialMT"/>
              </a:rPr>
              <a:t> the F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MT"/>
              </a:rPr>
              <a:t>File two separate F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MT"/>
              </a:rPr>
              <a:t>One for current state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MT"/>
              </a:rPr>
              <a:t>One for replacement state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MT"/>
              </a:rPr>
              <a:t>Commitment can only be for 12 months of service over both F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BA4B-F521-47D7-A849-820D801E1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MT"/>
              </a:rPr>
              <a:t>How to file for SRC F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irst FRN, file using the contract details on the current state master contra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second FRN, enter FRN details using the guidance for SRC expiring before the start of the fund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14DF-CAED-453C-8631-61B51621C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RC SPIN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State has signed and dated the new contract, then applicants can file a SPIN change to the official w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up the page of your FCDL with the SRC FRN and indicate the actu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14400" y="3886200"/>
          <a:ext cx="7467480" cy="2041560"/>
        </p:xfrm>
        <a:graphic>
          <a:graphicData uri="http://schemas.openxmlformats.org/drawingml/2006/table">
            <a:tbl>
              <a:tblPr/>
              <a:tblGrid>
                <a:gridCol w="3657600"/>
                <a:gridCol w="38098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P 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P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tate Filed Form 470 #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ontract Award D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ervice Start D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ervice End D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Expiration Date of the Replacement Contra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Effective Date of the Replacement Contra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2E07-235D-41BF-89B1-2B819E5DC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Master 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Files Form 470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Replacement Guidan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78AD-0E4B-4008-B7CE-C80B1213E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RC SPIN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and date the page, include your contact information and submit to USAC either via email or by regular mail to Correspondence Unit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you receive notification of the SPIN change, you can file your Form 48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C6AD-0546-4E78-8E6C-19925EF73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f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46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misjudged the number of months of recurring service on either the old contract or SRC F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make ministerial and clerical error corrections to resolve this until we issue the FCD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state never resolves the competitive bidding before the first FRN expir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allow you to continue with the old provider on a month-to-month basis until the new contract is awa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A5B3-5D3D-422D-9774-06DEFE8DF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f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ld state contract expires and the state ends up not signing a new contr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allow you to finish out the year on a month-to-month basis with the old provi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don’t like the new provider on the State Contr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using the SRC process, you agreed to abide by the State’s competitive bidding decision. You can’t change the SRC SPIN to a SPIN other than the winning bidder – including a previous provider if they didn’t win – because that would be a competitive bidding vio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E28D-AB28-49A5-9685-421141005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f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ends up awarding to multiple provi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follow the guidance described earlier in the presentation on multiple win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ends up not filing a Form 470 for the new contr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RC procedure can only be used if the State files a Form 470. Applicant-filed Forms 470 are not suffic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2694-5B0C-4A6E-877B-0071FB2E2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6098-9CA8-4233-B47C-562B004B6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acts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tract must be signed and dated by the applicant prior to the Form 471 certification postmark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nt must not sign a contract before the Allowable Contract Award Date (C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providers may sign before the 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tate and/or local contract law doesn’t require signature and/or date, the applicant will be given the opportunity to complete a certification stat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urchase order may considered a contract ONLY if your state considers it a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8DB9-90D4-481C-A749-B0EBC5063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act Ext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Contract Exten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allowable when the option for contract extensions is stated in the original provision of the contr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nt must rebid the services (i.e., file a new Form 470) if contract extensions are not st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elivery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recurring services may be voluntarily extended to permit delivery and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nts may request a service delivery extension from USA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e a Form 500 to notify USAC of the exten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FE44-3334-4909-9103-96354B97F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Master Contr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master contract (SMC) is competitively bid and put in place by a state government for use by multiple entities in that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, SMCs involve State Purchasing Agency and an RFP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on behalf of whole state – not just a consortium – and must be bid by a state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66E1-CB20-4953-B957-BD093DF16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Master Contr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vendor wins the b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 wi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awards contract to several bid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limited by geography or other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 Award Schedule (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awards contract for same goods and services to multiple vendors that can serve the sam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E727-1797-4BEC-B29D-A5EE1B0FA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s &amp; State Contr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urther documentation needed regarding pr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ceilings (highest price you can 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ontracts expect end users to further negotiate “best and final.”  Applicants must retain documentation of the negotiations from each bidder, and comply with FCC r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floors (lowest price you can 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additional work is needed by applicant to obtain specific pricing for the project from bidder(s). Must retain documentation and comply with FCC r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CF54-FC71-4B85-AC8C-20C6355B8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iled Form 4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ingle winner contracts, applicant does not have to justify vendor sele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winners always require vendor selection jus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limitation to single winner: document explanation in an e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ultiple vendors can provide the services to you, then you must conduct a mini-bid based on FCC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applicants must compare all available bidders in their mini-b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Award Date = Date you decided to purchase off State Con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: Memorialize your decision to purchase off a State Contract in an email to yourself or the f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19F6-6F69-4113-AA1B-C0914CCAD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-b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determine winning provider when there is more than one provider listed on the SMC that can provide the desired services to an 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need to file another Form 4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omply with all FCC Rules regarding vendor selection (i.e., most cost effective, price must be primary, cost-effectiven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n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8:35:31Z</dcterms:created>
  <dc:creator>Trial User</dc:creator>
  <dc:description/>
  <dc:language>en-US</dc:language>
  <cp:lastModifiedBy>lfullwood</cp:lastModifiedBy>
  <dcterms:modified xsi:type="dcterms:W3CDTF">2009-09-17T18:56:05Z</dcterms:modified>
  <cp:revision>239</cp:revision>
  <dc:subject/>
  <dc:title>State Contracts</dc:title>
</cp:coreProperties>
</file>